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7829-D24C-46CD-A130-7A20793A0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D92C-1F81-4BB1-8EB3-02FBF1C2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386-F322-4FD0-AD09-9B1E7365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30F-790F-4A08-886D-446FB87B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9CE-A884-46E8-AF4C-616A8B54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D18B-C355-46D8-BF63-D5FB0B60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EC9-82C3-4FD7-9CEA-D61306A1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D8A-B522-4F20-B42C-290ED4A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CE7-6F2D-4A7B-B305-FFEAB9A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47E-C7B3-4EF7-8568-87C46E61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B19-CAF8-4CDD-8D41-E8984C3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9CE-C901-4AA7-BC8F-7423A2F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34F-265E-40DF-A2AE-91DB97C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4ED-258D-49EB-92F1-7AB8307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0D5-DDCF-4741-A570-E50AA190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5029200" cy="768240"/>
            <a:chOff x="2743200" y="378000"/>
            <a:chExt cx="50292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5029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4:17Z</dcterms:modified>
  <cp:revision>119</cp:revision>
  <dc:subject/>
  <dc:title>Museum of World Stuff</dc:title>
</cp:coreProperties>
</file>